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8625-8D64-4CDD-8E2C-0CFD2249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B44-A0A4-4E93-A05A-2870A4B0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F07-CC9B-48D8-B03A-15F24F86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D03-247F-4CE2-931D-4318C41E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4D4-FF9C-4DEE-A4DF-373D1476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063-C69A-4CA9-A56B-03BE8813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88C6-932C-420B-B8EE-BC5DFC67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F10-1161-4B27-8549-A846833A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AAC-315D-46BE-9C04-4B3A3631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CBB-F378-4EF1-B132-68080554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070-0E00-4B72-A193-D01C0DE2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A94-1F99-4629-B04C-FF09EE40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BEBF-D785-4F72-B278-62771BAB1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eartblog.org/blog/wp-content/uploaded/basketball.jpg&amp;imgrefurl=http://theartblog.org/2009/07/book-review-games-and-art/&amp;usg=__jH6MCqf7lFC5uuXHcGlZGDwpRtg=&amp;h=601&amp;w=500&amp;sz=75&amp;hl=en&amp;start=3&amp;um=1&amp;itbs=1&amp;tbnid=ucwS8uXHJOJrGM:&amp;tbnh=135&amp;tbnw=112&amp;prev=/images%3Fq%3Dbasketball%2Bplayers%26hl%3De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classmates.com/imgsvc/d%3Fp%3D139312578&amp;imgrefurl=http://www.classmates.com/directory/school/Brighton%2520High%2520School%3Forg%3D3441&amp;usg=__Ro0ozEzBkBCsUJcO_g473yqP6aM=&amp;h=333&amp;w=450&amp;sz=141&amp;hl=en&amp;start=12&amp;um=1&amp;itbs=1&amp;tbnid=uape41VK-HZLdM:&amp;tbnh=94&amp;tbnw=127&amp;prev=/images%3Fq%3Dbrighton%2Bhigh%2Bschool%26hl%3Den%26um%3D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scrapetv.com/News/News%2520Pages/Business/images/mcdonalds%2520logo.jpg&amp;imgrefurl=http://scrapetv.com/News/News%2520Pages/Business/McDonalds%2520sued%2520over%2520fat%2520content%2520in%2520air.html&amp;usg=__2zqO3COrZfVtRWZSRKDAEne8plo=&amp;h=232&amp;w=250&amp;sz=11&amp;hl=en&amp;start=4&amp;um=1&amp;itbs=1&amp;tbnid=1hXwDGJa6VGsEM:&amp;tbnh=103&amp;tbnw=111&amp;prev=/images%3Fq%3Dmcdonalds%2Blogo%26hl%3Den%26um%3D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albinwilson.files.wordpress.com/2009/03/buckinghampalace_468x376.jpg&amp;imgrefurl=http://albinwilson.wordpress.com/2009/03/12/hello-world/&amp;usg=__UvC6raY392R1MLXhF3OSsN9bFes=&amp;h=376&amp;w=468&amp;sz=85&amp;hl=en&amp;start=3&amp;um=1&amp;itbs=1&amp;tbnid=WV-Bq6zoQR00AM:&amp;tbnh=103&amp;tbnw=128&amp;prev=/images%3Fq%3Dbuckingham%2Bpalace%26hl%3Den%26um%3D1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ff"/>
                </a:solidFill>
                <a:latin typeface="Arial"/>
              </a:rPr>
              <a:t>Grammar Mini-Lesso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Last one…. </a:t>
            </a:r>
            <a:r>
              <a:rPr b="1" lang="en-US" sz="5000" spc="-1" strike="noStrike">
                <a:solidFill>
                  <a:srgbClr val="ff0066"/>
                </a:solidFill>
                <a:latin typeface="Comic Sans MS"/>
              </a:rPr>
              <a:t>THEI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ce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the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a NO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ok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ctic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ther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66"/>
                </a:solidFill>
                <a:latin typeface="Comic Sans MS"/>
              </a:rPr>
              <a:t>THEI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s using the word “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ents are studying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s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hletes are doing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ercis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rus and Michael are watching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vorite show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What You Lear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next activity, hold up the card that either says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wisc-online.com/objects/index_tj.asp?objid=ESL14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Ther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i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They’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speak,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und a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hese three word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elled differ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You need to remember these differences to write them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Ther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hei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They’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refers to a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s a possessive adjective (shows posse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mean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y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Check out these examp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ying basketba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 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143000"/>
            <a:ext cx="2141640" cy="258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cc00"/>
                </a:solidFill>
                <a:latin typeface="Comic Sans MS"/>
              </a:rPr>
              <a:t>Or……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rd of the Fl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ing to the Celtics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ying out for tr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ing a grea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red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veryone in the room think of a sen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What about </a:t>
            </a:r>
            <a:r>
              <a:rPr b="1" lang="en-US" sz="5000" spc="-1" strike="noStrike">
                <a:solidFill>
                  <a:srgbClr val="00cc00"/>
                </a:solidFill>
                <a:latin typeface="Comic Sans MS"/>
              </a:rPr>
              <a:t>THERE</a:t>
            </a: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cates a specific location o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ghto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Dona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590920"/>
            <a:ext cx="2052720" cy="1519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91400" y="4010040"/>
            <a:ext cx="1590480" cy="14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919760"/>
            <a:ext cx="1828800" cy="147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cc00"/>
                </a:solidFill>
                <a:latin typeface="Comic Sans MS"/>
              </a:rPr>
              <a:t>There---</a:t>
            </a:r>
            <a:r>
              <a:rPr b="1" lang="en-US" sz="5000" spc="-1" strike="noStrike">
                <a:solidFill>
                  <a:srgbClr val="00cc00"/>
                </a:solidFill>
                <a:latin typeface="Comic Sans MS"/>
              </a:rPr>
              <a:t>continue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press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Often, but not always,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as an ad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keys are over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uncle is having a party, and I promised I would be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in is at the gym, I’ll go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cc00"/>
                </a:solidFill>
                <a:latin typeface="Comic Sans MS"/>
              </a:rPr>
              <a:t>There---</a:t>
            </a:r>
            <a:r>
              <a:rPr b="1" lang="en-US" sz="4600" spc="-1" strike="noStrike">
                <a:solidFill>
                  <a:srgbClr val="00cc00"/>
                </a:solidFill>
                <a:latin typeface="Comic Sans MS"/>
              </a:rPr>
              <a:t>continue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ed as a pronoun to start a sen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lot of work to fin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ome milk in the refrig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many cars on the highway last nig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omic Sans MS"/>
              </a:rPr>
              <a:t>Last one…. </a:t>
            </a:r>
            <a:r>
              <a:rPr b="1" lang="en-US" sz="5000" spc="-1" strike="noStrike">
                <a:solidFill>
                  <a:srgbClr val="ff0066"/>
                </a:solidFill>
                <a:latin typeface="Comic Sans MS"/>
              </a:rPr>
              <a:t>THEI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ossessive adjec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example below, it means both students have the same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s are studying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81480" y="3276720"/>
            <a:ext cx="3886200" cy="301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1:10:32Z</dcterms:created>
  <dc:creator>BPS</dc:creator>
  <dc:description/>
  <dc:language>en-US</dc:language>
  <cp:lastModifiedBy>BPS</cp:lastModifiedBy>
  <dcterms:modified xsi:type="dcterms:W3CDTF">2009-11-29T21:57:29Z</dcterms:modified>
  <cp:revision>12</cp:revision>
  <dc:subject/>
  <dc:title>Grammar Mini-Lesson</dc:title>
</cp:coreProperties>
</file>